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4777-29E3-4C54-8866-8D03D2F230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2BF2-BCDB-4750-945F-FD67939E80B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B1E5-D879-402D-ABE3-4FBFC4645C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812B-A709-47B7-B65B-5465526823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94F-E6AA-4D25-9281-F9066E08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F6D-1F7C-42D1-8358-A207F12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FFE-7C70-45A3-B54E-3BE75421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2B6-2461-4D82-9A17-C0652FE8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09A-053A-4B00-9BA7-93D55246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C59-04E4-451B-BC9F-27EB43D3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861-BE53-4EA2-B7C5-CEB608F6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49A-5BAF-4CD3-BBB3-21849BE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8F2-9EEC-410A-B1EB-5CABA4F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2F8-4592-4A85-B4A5-EE85911C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2E0-4D16-493D-A3C6-A9CF012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992-D8CD-43BA-B3D3-9CDCE97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DF90-8761-4352-974E-A9260C0A21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ext.ru/rd/aHR0cDovL25zcG9ydGFsLnJ1L3Noa29sYS9rbGFzc25vZS1ydWtvdm9kc3R2by9saWJyYXJ5LzIwMTUvMDIvMTIva2xhc3NueXktY2hhcy1tYW1vY2hrYS1taWxheWEtbWFtYQ%3D%3D" TargetMode="External"/><Relationship Id="rId2" Type="http://schemas.openxmlformats.org/officeDocument/2006/relationships/hyperlink" Target="http://text.ru/rd/aHR0cDovL3N0cmFuYWtpZHMucnUvc3RpaGktby1tYW1lLWRseWEtZGV0ZWktcG9zdGFyc2hlLzQv" TargetMode="External"/><Relationship Id="rId3" Type="http://schemas.openxmlformats.org/officeDocument/2006/relationships/hyperlink" Target="http://text.ru/rd/aHR0cDovL3d3dy56YW5pbWF0aWthLm5hcm9kLnJ1L05hcmFib3RraTZfNF8xLmh0bQ%3D%3D" TargetMode="External"/><Relationship Id="rId4" Type="http://schemas.openxmlformats.org/officeDocument/2006/relationships/hyperlink" Target="http://text.ru/rd/aHR0cDovL3d3dy56YW5pbWF0aWthLm5hcm9kLnJ1L05hcmFib3RraTZfNF8xLmh0bQ%3D%3D" TargetMode="External"/><Relationship Id="rId5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6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7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8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9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0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1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2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3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4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5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6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7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8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19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20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21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22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23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24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25" Type="http://schemas.openxmlformats.org/officeDocument/2006/relationships/hyperlink" Target="http://text.ru/rd/aHR0cDovL25zcG9ydGFsLnJ1L25hY2hhbG5heWEtc2hrb2xhL2RseWEta29tcGxla3Nvdi1kZXRza2lpLXNhZC1uYWNoYWxuYXlhLXNoa29sYS8yMDE0LzA1LzI1L2tsYXNzbnl5LWNoYXMta28tZG55dQ%3D%3D" TargetMode="External"/><Relationship Id="rId26" Type="http://schemas.openxmlformats.org/officeDocument/2006/relationships/hyperlink" Target="http://text.ru/rd/aHR0cDovL3huLS1iMWFsaGIwYjVlLnhuLS1wMWFpL9C60L7Qv9C40LvQutCwL9C%2F0YDQsNC30LTQvdC40Lot0LTQu9GPLdC80LDQvC3Qv9C%2B0YHQstGP0YnQtdC90L3Ri9C5LdC00L3Rji3QvNCw0YLQtS8%3D" TargetMode="External"/><Relationship Id="rId27" Type="http://schemas.openxmlformats.org/officeDocument/2006/relationships/hyperlink" Target="http://text.ru/rd/aHR0cDovL25zcG9ydGFsLnJ1L2RldHNraXktc2FkL3Jhem5vZS8yMDE0LzEyLzA5L3ByZXplbnRhdHNpeWEtcHJpdGNoYS1vLW1hbWU%3D" TargetMode="External"/><Relationship Id="rId28" Type="http://schemas.openxmlformats.org/officeDocument/2006/relationships/hyperlink" Target="http://text.ru/rd/aHR0cDovL25zcG9ydGFsLnJ1L3Noa29sYS9rbGFzc25vZS1ydWtvdm9kc3R2by9saWJyYXJ5LzIwMTUvMDMvMjUva2xhc3NueXktY2hhcy1kZW4tbWF0ZXJp" TargetMode="External"/><Relationship Id="rId29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0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1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2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3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4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5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6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7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8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39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0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1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2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3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4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5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6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7" Type="http://schemas.openxmlformats.org/officeDocument/2006/relationships/hyperlink" Target="http://text.ru/rd/aHR0cDovL3d3dy5tYWFtLnJ1L2RldHNraWpzYWQvc2NlbmFyaWktcHJhemRuaWthLW1hbW9jaGthLW1pbGFqYS1tb2phLXYtc3RhcnNoZWktZ3J1cGUuaHRtbA%3D%3D" TargetMode="External"/><Relationship Id="rId48" Type="http://schemas.openxmlformats.org/officeDocument/2006/relationships/hyperlink" Target="http://text.ru/rd/aHR0cDovL3d3dy56YW5pbWF0aWthLm5hcm9kLnJ1L05hcmFib3RraTZfNF8xLmh0bQ%3D%3D" TargetMode="External"/><Relationship Id="rId49" Type="http://schemas.openxmlformats.org/officeDocument/2006/relationships/hyperlink" Target="http://text.ru/rd/aHR0cDovL3d3dy56YW5pbWF0aWthLm5hcm9kLnJ1L05hcmFib3RraTZfNF8xLmh0bQ%3D%3D" TargetMode="External"/><Relationship Id="rId50" Type="http://schemas.openxmlformats.org/officeDocument/2006/relationships/hyperlink" Target="http://text.ru/rd/aHR0cDovL3d3dy56YW5pbWF0aWthLm5hcm9kLnJ1L05hcmFib3RraTZfNF8xLmh0bQ%3D%3D" TargetMode="External"/><Relationship Id="rId51" Type="http://schemas.openxmlformats.org/officeDocument/2006/relationships/hyperlink" Target="http://text.ru/rd/aHR0cDovL3d3dy56YW5pbWF0aWthLm5hcm9kLnJ1L05hcmFib3RraTZfNF8xLmh0bQ%3D%3D" TargetMode="External"/><Relationship Id="rId52" Type="http://schemas.openxmlformats.org/officeDocument/2006/relationships/hyperlink" Target="http://text.ru/rd/aHR0cDovL3d3dy56YW5pbWF0aWthLm5hcm9kLnJ1L05hcmFib3RraTZfNF8xLmh0bQ%3D%3D" TargetMode="External"/><Relationship Id="rId53" Type="http://schemas.openxmlformats.org/officeDocument/2006/relationships/hyperlink" Target="http://text.ru/rd/aHR0cDovL3d3dy56YW5pbWF0aWthLm5hcm9kLnJ1L05hcmFib3RraTZfNF8xLmh0bQ%3D%3D" TargetMode="External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Классный час</a:t>
            </a:r>
            <a:br>
              <a:rPr sz="40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 (для учащихся 3-4 кл.)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ГЛАВНОЕ СЛОВО НА ЛЮБОМ ЯЗЫКЕ»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Автор: Астафьева Антонина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ладимировна, учитель начальных классов МБОУ СОШ № 5 имени Лейтенанта Мурадяна, г.Геленджик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армян.костюм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unatlib.org.ru:81/content/folk/arm/pict/i06.jpg"/>
          <p:cNvPicPr/>
          <p:nvPr/>
        </p:nvPicPr>
        <p:blipFill>
          <a:blip r:embed="rId2"/>
          <a:stretch/>
        </p:blipFill>
        <p:spPr>
          <a:xfrm>
            <a:off x="5357880" y="500040"/>
            <a:ext cx="2928960" cy="5929200"/>
          </a:xfrm>
          <a:prstGeom prst="rect">
            <a:avLst/>
          </a:prstGeom>
          <a:ln w="0">
            <a:noFill/>
          </a:ln>
        </p:spPr>
      </p:pic>
      <p:pic>
        <p:nvPicPr>
          <p:cNvPr id="69" name="арам-Асатрян-Майрик-армянская-песня-о-маме(mp3-sait.info).mp3" descr=""/>
          <p:cNvPicPr/>
          <p:nvPr/>
        </p:nvPicPr>
        <p:blipFill>
          <a:blip r:embed="rId3"/>
          <a:stretch/>
        </p:blipFill>
        <p:spPr>
          <a:xfrm>
            <a:off x="100008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8619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цветы для мам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C:\Users\Нина\Desktop\Любовь Петровна\фото для Любовь Петровны\002ct0a3.jpg"/>
          <p:cNvPicPr/>
          <p:nvPr/>
        </p:nvPicPr>
        <p:blipFill>
          <a:blip r:embed="rId1"/>
          <a:stretch/>
        </p:blipFill>
        <p:spPr>
          <a:xfrm>
            <a:off x="0" y="214200"/>
            <a:ext cx="3357720" cy="4214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C:\Users\Нина\Desktop\Любовь Петровна\фото для Любовь Петровны\b0b5d476f98b.jpg"/>
          <p:cNvPicPr/>
          <p:nvPr/>
        </p:nvPicPr>
        <p:blipFill>
          <a:blip r:embed="rId2"/>
          <a:stretch/>
        </p:blipFill>
        <p:spPr>
          <a:xfrm>
            <a:off x="357120" y="3714840"/>
            <a:ext cx="384192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адыг.jpg"/>
          <p:cNvPicPr/>
          <p:nvPr/>
        </p:nvPicPr>
        <p:blipFill>
          <a:blip r:embed="rId3"/>
          <a:stretch/>
        </p:blipFill>
        <p:spPr>
          <a:xfrm>
            <a:off x="4071960" y="588960"/>
            <a:ext cx="47149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зайч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мама -ты на свете лучше всех.mp3" descr=""/>
          <p:cNvPicPr/>
          <p:nvPr/>
        </p:nvPicPr>
        <p:blipFill>
          <a:blip r:embed="rId2"/>
          <a:stretch/>
        </p:blipFill>
        <p:spPr>
          <a:xfrm>
            <a:off x="714240" y="5143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656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0" y="73080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нет источ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nsportal.ru/shkola/klassnoe-rukovodstvo/library/20...mamochka-milaya-m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stranakids.ru/stihi-o-mame-dlya-detei-postarshe/4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www.zanimatika.narod.ru/Narabotki6_4_1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www.zanimatika.narod.ru/Narabotki6_4_1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nsportal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8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9"/>
              </a:rPr>
              <a:t>nachalnay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2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3"/>
              </a:rPr>
              <a:t>dly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4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5"/>
              </a:rPr>
              <a:t>komplekso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7"/>
              </a:rPr>
              <a:t>dets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8"/>
              </a:rPr>
              <a:t>..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9"/>
              </a:rPr>
              <a:t>lassnyy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0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1"/>
              </a:rPr>
              <a:t>chas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2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3"/>
              </a:rPr>
              <a:t>ko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4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5"/>
              </a:rPr>
              <a:t>dny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6"/>
              </a:rPr>
              <a:t>литвяк.рф/копилка/праздник-для-мам-посвященный-дню-мате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7"/>
              </a:rPr>
              <a:t>nsportal.ru/detskiy-sad/raznoe/2014/12/09/prezentatsiya-pritcha-o-m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8"/>
              </a:rPr>
              <a:t>nsportal.ru/shkola/klassnoe-rukovodstvo/library/20...snyy-chas-den-mat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9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0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1"/>
              </a:rPr>
              <a:t>maam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2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3"/>
              </a:rPr>
              <a:t>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4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5"/>
              </a:rPr>
              <a:t>detskijsad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6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7"/>
              </a:rPr>
              <a:t>scenarii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8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9"/>
              </a:rPr>
              <a:t>prazdnik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0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1"/>
              </a:rPr>
              <a:t>mamochk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2"/>
              </a:rPr>
              <a:t>...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3"/>
              </a:rPr>
              <a:t>starshei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4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5"/>
              </a:rPr>
              <a:t>grupe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6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7"/>
              </a:rPr>
              <a:t>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8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0"/>
              </a:rPr>
              <a:t>zanimatik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1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2"/>
              </a:rPr>
              <a:t>narod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3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Narabotki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6_4_1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0_6d438_b2cb7e70_XL"/>
          <p:cNvPicPr/>
          <p:nvPr/>
        </p:nvPicPr>
        <p:blipFill>
          <a:blip r:embed="rId1"/>
          <a:srcRect l="0" t="3095" r="-263" b="43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солнце для мама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мама главное слово.mp3" descr=""/>
          <p:cNvPicPr/>
          <p:nvPr/>
        </p:nvPicPr>
        <p:blipFill>
          <a:blip r:embed="rId2"/>
          <a:stretch/>
        </p:blipFill>
        <p:spPr>
          <a:xfrm>
            <a:off x="1500120" y="52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19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F:\girldress2red.jpg"/>
          <p:cNvPicPr/>
          <p:nvPr/>
        </p:nvPicPr>
        <p:blipFill>
          <a:blip r:embed="rId1"/>
          <a:stretch/>
        </p:blipFill>
        <p:spPr>
          <a:xfrm>
            <a:off x="285840" y="357120"/>
            <a:ext cx="3786120" cy="6000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F:\russian-native-costume-0021.jpg"/>
          <p:cNvPicPr/>
          <p:nvPr/>
        </p:nvPicPr>
        <p:blipFill>
          <a:blip r:embed="rId2"/>
          <a:stretch/>
        </p:blipFill>
        <p:spPr>
          <a:xfrm>
            <a:off x="4500720" y="428760"/>
            <a:ext cx="42242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цв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дети о маме.mp3" descr=""/>
          <p:cNvPicPr/>
          <p:nvPr/>
        </p:nvPicPr>
        <p:blipFill>
          <a:blip r:embed="rId2"/>
          <a:stretch/>
        </p:blipFill>
        <p:spPr>
          <a:xfrm>
            <a:off x="85716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590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украинский костюм.jpg"/>
          <p:cNvPicPr/>
          <p:nvPr/>
        </p:nvPicPr>
        <p:blipFill>
          <a:blip r:embed="rId1"/>
          <a:stretch/>
        </p:blipFill>
        <p:spPr>
          <a:xfrm>
            <a:off x="1000080" y="428760"/>
            <a:ext cx="3714840" cy="6095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ukrainkукраин.jpg"/>
          <p:cNvPicPr/>
          <p:nvPr/>
        </p:nvPicPr>
        <p:blipFill>
          <a:blip r:embed="rId2"/>
          <a:stretch/>
        </p:blipFill>
        <p:spPr>
          <a:xfrm>
            <a:off x="5143680" y="428760"/>
            <a:ext cx="3643200" cy="6072120"/>
          </a:xfrm>
          <a:prstGeom prst="rect">
            <a:avLst/>
          </a:prstGeom>
          <a:ln w="0">
            <a:noFill/>
          </a:ln>
        </p:spPr>
      </p:pic>
      <p:pic>
        <p:nvPicPr>
          <p:cNvPr id="58" name="Mamo.mp3" descr=""/>
          <p:cNvPicPr/>
          <p:nvPr/>
        </p:nvPicPr>
        <p:blipFill>
          <a:blip r:embed="rId3"/>
          <a:stretch/>
        </p:blipFill>
        <p:spPr>
          <a:xfrm>
            <a:off x="571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бабушка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Афродита - Песня про бабушку  (audiopoisk.com).mp3" descr=""/>
          <p:cNvPicPr/>
          <p:nvPr/>
        </p:nvPicPr>
        <p:blipFill>
          <a:blip r:embed="rId2"/>
          <a:stretch/>
        </p:blipFill>
        <p:spPr>
          <a:xfrm>
            <a:off x="500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193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babu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без бабушки - без бабушки  (audiopoisk.com).mp3" descr=""/>
          <p:cNvPicPr/>
          <p:nvPr/>
        </p:nvPicPr>
        <p:blipFill>
          <a:blip r:embed="rId2"/>
          <a:stretch/>
        </p:blipFill>
        <p:spPr>
          <a:xfrm>
            <a:off x="41432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4252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7" descr="F:\imgp0540.jpg"/>
          <p:cNvPicPr/>
          <p:nvPr/>
        </p:nvPicPr>
        <p:blipFill>
          <a:blip r:embed="rId1"/>
          <a:stretch/>
        </p:blipFill>
        <p:spPr>
          <a:xfrm>
            <a:off x="3000240" y="571680"/>
            <a:ext cx="2928960" cy="5643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F:\DCIM\102CANON\IMG_0487.JPG"/>
          <p:cNvPicPr/>
          <p:nvPr/>
        </p:nvPicPr>
        <p:blipFill>
          <a:blip r:embed="rId2"/>
          <a:stretch/>
        </p:blipFill>
        <p:spPr>
          <a:xfrm>
            <a:off x="357120" y="50004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F:\07bc72b277e58d17.jpg"/>
          <p:cNvPicPr/>
          <p:nvPr/>
        </p:nvPicPr>
        <p:blipFill>
          <a:blip r:embed="rId3"/>
          <a:stretch/>
        </p:blipFill>
        <p:spPr>
          <a:xfrm>
            <a:off x="5786280" y="3043080"/>
            <a:ext cx="3000600" cy="3314880"/>
          </a:xfrm>
          <a:prstGeom prst="rect">
            <a:avLst/>
          </a:prstGeom>
          <a:ln w="0">
            <a:noFill/>
          </a:ln>
        </p:spPr>
      </p:pic>
      <p:pic>
        <p:nvPicPr>
          <p:cNvPr id="66" name="песня казачки.mp3" descr=""/>
          <p:cNvPicPr/>
          <p:nvPr/>
        </p:nvPicPr>
        <p:blipFill>
          <a:blip r:embed="rId4"/>
          <a:stretch/>
        </p:blipFill>
        <p:spPr>
          <a:xfrm>
            <a:off x="464328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13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24:41Z</dcterms:created>
  <dc:creator>Admin</dc:creator>
  <dc:description/>
  <dc:language>en-US</dc:language>
  <cp:lastModifiedBy>Админ</cp:lastModifiedBy>
  <dcterms:modified xsi:type="dcterms:W3CDTF">2021-12-29T13:06:53Z</dcterms:modified>
  <cp:revision>6</cp:revision>
  <dc:subject/>
  <dc:title>    Единый Всекубанский классный час    «ГЛАВНОЕ СЛОВО НА ЛЮБОМ ЯЗЫКЕ»  Автор: Астафьева Антонина Владимировна, учитель начальных классов МБОУ СОШ № 5, г.Геленджик    </dc:title>
</cp:coreProperties>
</file>